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141-7C98-4949-A7B7-BD2B9619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E60-D4CB-4CD5-8E88-D20DFF04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EA5-D769-4626-88FE-E8ADBB00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6F8-B5AD-47DF-819D-DE76FCAB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5B7-A398-4A75-BCAC-36B3C74A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946-A49A-461B-BAF9-C3CF560E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840-D3AE-49A0-9E4C-04294A02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7FD-1DF4-47AF-9BA7-FFDBFC1D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252-5D62-45DF-98E5-E6E2711C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BD8-BEFD-403B-9262-3A5E94A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3FD-3B71-49F2-BA35-63965098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DC1-E01D-4E13-B165-01CB08C5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9A50-FBF6-4BB9-9297-790CCA36E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etricmanialogo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49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0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4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8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59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0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3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4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4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85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87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1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93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St. Aloysius</cp:lastModifiedBy>
  <dcterms:modified xsi:type="dcterms:W3CDTF">2012-10-01T17:15:46Z</dcterms:modified>
  <cp:revision>13</cp:revision>
  <dc:subject/>
  <dc:title>Slide 1</dc:title>
</cp:coreProperties>
</file>